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FB0-4AD1-4AAD-B1EB-2DCCEA3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A92-4835-41D9-A197-0699A193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68E-EF54-4FA5-9E03-1E4E0160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097-33F4-485F-A970-BE09965F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323-144B-4EBA-A5FA-093DE18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E61-6ECF-4EA9-96AF-5E3D66E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889-99C3-44BD-B4C4-27E4EA38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100-9E44-4CF8-8BCD-28DA0E7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364-0908-49AF-92B9-71CC79D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149-51D0-48BC-BE34-0D7D66A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9DC-0A30-457C-AABF-1EAACD4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3D3-5AEB-45F4-A40D-6E26BC42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B52-B294-4F21-98A0-9AD59FC870F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1 Mysli na tie davy ľud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sli na tie davy ľud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plnených veľkom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hľad na ne súcit bud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eba im zvesť spásy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srdce skrýva túž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živote blažen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tal čas pre vernú služ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oli k žatve dozre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istovi sa Boh sám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dným z ľudí navždy st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iedu našu vzal na s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u k sláve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hanbe kríža za nás on s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ypil kalich hrozných mú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spásy pramení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prebodnutých jeho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volá ubol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šetkých končín, sveta strá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te ku mne, un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vám odpočinok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námahy, práce, zno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 mňa pokoj nájde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e slová rany zho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ich vierou prijmet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52:47Z</dcterms:modified>
  <cp:revision>34</cp:revision>
  <dc:subject/>
  <dc:title>Je veľký náš Pán, on slávy je Kráľ Nech do všetkých strán  spev vrúcnych znie chvál.</dc:title>
</cp:coreProperties>
</file>